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E1D-7A29-4C58-983B-F576FC7A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002-B28D-41D7-8CB2-3EC53C47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ADD-04C1-4D95-A768-F984239B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84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76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84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76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D26-6A97-4AB0-8327-55BCC5C8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C04-59FB-4420-96AC-353F88ED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37E-BFA1-477C-82CA-81715595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544-F563-40FA-AAAB-32C840EC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BAE5-0E2B-4BAC-A793-3A2B5945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7DA-549A-4F14-85BF-A2380B0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5280" y="301680"/>
            <a:ext cx="6150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9B8-6632-4DCD-838D-99E5732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4135-A7D2-4581-96F1-4DC9F2E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88A-3578-4E00-AE8A-0D0B3B5F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1EF6-E70C-4197-A0D2-F8075F31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AE4-F41E-4CDE-91B0-50DE8B61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0656-96D6-4F13-B5D1-130F28E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6734-17B1-4E7E-B69F-2CB3713E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584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276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28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584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276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4D5-E599-400A-8F2F-FBF64FD0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45A1-7F0A-4152-A417-92B3B5D4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3FFE-C63B-4250-B33D-8774A4ED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E02F-FB09-4B96-8211-AFBC49BA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E396-7D61-4EDB-9362-B22854F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21D0-41E9-4668-9253-B49E2E8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65C-99AE-46FB-B197-2CDF0775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35280" y="301680"/>
            <a:ext cx="6150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66E1-2CD2-4D9C-B9E0-23E722A6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5264-EDBD-46AD-B429-7C8BB70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C41-39AD-4623-8C73-902EE78A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3478-C8BE-4852-801E-8861241B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D865-BD3D-43A0-B3A1-0078EA97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E1A2-AE20-40EC-A986-4FB11A62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584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32760" y="176796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7928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584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232760" y="3755880"/>
            <a:ext cx="250128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E48F-0665-4BF3-8616-9F729137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ECF-6CCE-4521-88B8-DF07CD02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CA-45A2-40B0-AA51-7CE02D9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5280" y="301680"/>
            <a:ext cx="6150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A42-E44C-4D23-8931-4F6ACEB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3B5-1D23-4E40-A6FA-7BB0800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0520" y="375588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153-52D2-4D39-93E1-7B099D3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0520" y="1767960"/>
            <a:ext cx="3791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3755880"/>
            <a:ext cx="7769160" cy="18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62B-6E2E-47A3-87A3-B4888B68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F43DD-BE70-419A-B133-651E1EE7A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E5611-F891-445D-BAF6-4E673BDAD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5280" y="301680"/>
            <a:ext cx="6150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9280" y="1767960"/>
            <a:ext cx="776916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763280" y="6094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203360" y="670680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515360" y="670680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51EA7-40BA-4FCF-B3D0-22D4C3FFF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rman.about.com/library/blbraeuche.htm" TargetMode="External"/><Relationship Id="rId3" Type="http://schemas.openxmlformats.org/officeDocument/2006/relationships/hyperlink" Target="http://www.mapsofworld.com/world-top-ten/world-top-ten-feature-film-production-map.html" TargetMode="External"/><Relationship Id="rId4" Type="http://schemas.openxmlformats.org/officeDocument/2006/relationships/hyperlink" Target="http://www.myswissalps.com/switzerland/switzerland-language.asp?lang=EN" TargetMode="External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3280" y="166680"/>
            <a:ext cx="90709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ltural Events in Germany, Austria, Switzer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 Baldeweg-R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34920" y="345600"/>
            <a:ext cx="6156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Answer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-18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nd unmarried Swiss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5280" y="301320"/>
            <a:ext cx="6153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ork sited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german.about.com/library/blbraeuch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apsofworld.com/world-top-ten/world-top-ten-feature-film-production-ma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yswissalps.com/switzerland/switzerland-language.asp?lang=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erman Cultural Event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rlinale Film Festiv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t is one of the world's leading film festiv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ctoberf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s a 16-18 day beer festival held yearly in Muni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ve Para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alled the "world's largest techno music festival and free party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sides techno music, there is also usually a lot of nudity, free spirited sexual adventures in public places and quite a bit of "general-purpose partying.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ankfurt's Book Fai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s the world's largest trade fair for boo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85716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34920" y="345960"/>
            <a:ext cx="6154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erlinale Film Festival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640" y="1767960"/>
            <a:ext cx="7773840" cy="537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525780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30640" y="2362320"/>
            <a:ext cx="3638520" cy="374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30640" y="2362320"/>
            <a:ext cx="36385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Oktoberfest in Munich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34920" y="290520"/>
            <a:ext cx="6156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Austrian Cultural Event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Vienna New Years Concer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Vienna Philharmonic plays concert of classical music each year on New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rcissus Festiv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gest flower parade in Aust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All Saint′s Day"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es place on October 31st as day to commemorate the de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rampustag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day on which young man dress up in fur, devi′s masks and get oxen tails and bundles of branches as weap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"Glöckler"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Young men dressed up in white trousers and dress with large crest-hat decorations that are lit up from the inside and they walk from one door to another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34920" y="290520"/>
            <a:ext cx="6156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The Vienna New Years Concer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6858000" cy="4343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906640" y="2157480"/>
            <a:ext cx="42861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Swiss Cultural Event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606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lvesterkläu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y wear masks and costumes with huge cowbells back and front and carry enormous headdresses depicting typical local sc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schäggätta tradi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ng unmarried men and boys roam the streets of the villages of the valley, wearing demonic masks and tunics made of goat sk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hseläuten festiv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lude the burning of an effigy known as the Böögg and a parade of child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ästeilet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wners of cheese producing cows hold a ceremony at which they share their cheese with one anoth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Sechseläuten Festival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7564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6858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34920" y="345600"/>
            <a:ext cx="6156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Quiz Questions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9280" y="1767960"/>
            <a:ext cx="777564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how many days does Oktoberfest last for in Mun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chäggätta tradition what type of people are wearing demon masks and goat sk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5:48:02Z</dcterms:created>
  <dc:creator/>
  <dc:description/>
  <dc:language>en-US</dc:language>
  <cp:lastModifiedBy/>
  <cp:lastPrinted>2011-11-07T02:10:19Z</cp:lastPrinted>
  <cp:revision>1</cp:revision>
  <dc:subject/>
  <dc:title/>
</cp:coreProperties>
</file>